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E3E-5D28-4201-BE06-8D2F618E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33A-6A93-4182-9F97-7BDEA4B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A7D-340F-4C60-8053-C6E85272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645-1489-4AC8-BA58-4252585D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6DD-56AB-4B27-9228-7C7C78B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A02-F072-44A9-8EF9-AB7CBC6B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BA5-AEAB-4565-BA13-F79D6DE8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9186-D84C-4601-8585-6645C911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9E1-84C3-4DF3-96AA-D5B0A3B0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301-26EC-45AF-AF44-7E16552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226C-3EC7-45B0-AB3E-971B1DE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D51-49CF-4921-9839-16020BAA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90C3-DF17-4492-9379-5CFF695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6281-1F38-4604-ADF6-F5A6A43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DF71-43FA-43A7-917E-02BABB4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38D7-F787-4B63-910A-39F592A9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7B35-1EE8-465C-9232-37057093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1BC-B6A5-466E-90EE-2AC72EE1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0CD-EA23-4031-857C-CD0A2E49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30A-3A52-4B2B-AB7C-A3F7706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501-B1C3-4E48-B9F2-464B26B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8E4-02B6-4EBA-B013-316C6B4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248-BBA1-427E-9AE1-F3A7635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DA9-9134-4754-95F0-CCD11B6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314-030D-4F9C-8A5F-3426ADC270C5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405-2EE6-4F8A-B899-1563D03D5B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renal 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1148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16280" cy="1770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00200" y="2209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lun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tion of the Adrenal gl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glands. One at the top of each kidne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si55550229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578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rmones and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pinephri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also called adrenalin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s the heart rate and force of heart con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axes organs not needed for immediate survi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s conversion of glycogen to gluc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repinephrine (also called noradrenalin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soconstrictive effects, thus increasing blood pressur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ol Mechan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ated by the parasympathetic nervous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t should st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mics the nervous system, bu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sts lo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less ener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2:32:28Z</dcterms:created>
  <dc:creator>dthomas</dc:creator>
  <dc:description/>
  <dc:language>en-US</dc:language>
  <cp:lastModifiedBy>dthomas</cp:lastModifiedBy>
  <dcterms:modified xsi:type="dcterms:W3CDTF">2007-03-19T14:04:31Z</dcterms:modified>
  <cp:revision>5</cp:revision>
  <dc:subject/>
  <dc:title>Adrenal Gland</dc:title>
</cp:coreProperties>
</file>